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E861-2D3B-4E1C-8F3A-49DFFAB20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3CD9-69B2-48F4-8E9B-FC9E46F1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7C3E-7D8D-4FF0-8CBE-0B8C352E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2A92-FFA8-4C78-BCDC-229E1500C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C035-1EA5-453B-A02B-5379975C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2C32-541C-451D-8199-1C283C22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3E2D-29E2-4ABB-855F-A0AD9D8E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8364-85D8-480E-B3A6-15BA5DE5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D850-A6F2-445F-9A35-83291EC6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92BF-99C3-4986-B3CE-C4CB6352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4635-020A-492A-BC53-E6511285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F261-B113-48AE-A0DC-65356AF5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BFE2-1C3D-4759-833A-DC396FB8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1279-C2ED-4AE7-9564-495D4D82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5271-C122-4853-B871-66EBE62C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D374-B080-4F1D-903C-7F8F5E2CB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6AFA-C377-43AB-A77F-1670BEF2E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8DBF-C002-4D4F-98D7-A7B0FBB6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B51C-404F-4380-9424-AFA19642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809E-3998-46F0-AB6E-1B19C297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C5C0-D118-494F-A930-9AB4781D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D2AD-BD10-4452-9FBA-6BE333F2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A570-34A1-4599-A02D-41725ADB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DD9C-05B8-4F6F-8739-429E5E63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8C04-2EAE-413A-8963-028BCDB13C3D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F9D2-B1EA-4978-8ED3-FCD4A2C84C35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决策树算法及应用拓展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内容简介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概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预备知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决策树生成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(Building Decision Tree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决策树剪枝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(Pruning Decision Tree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捕捉变化数据的挖掘方法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小结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4343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训练集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举例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209680" y="1752480"/>
          <a:ext cx="658512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752480"/>
                    <a:ext cx="65851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304920" y="19051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ahoma"/>
              </a:rPr>
              <a:t>ID3</a:t>
            </a:r>
            <a:r>
              <a:rPr b="0" lang="zh-CN" sz="2800" spc="-1" strike="noStrike">
                <a:solidFill>
                  <a:srgbClr val="5b5249"/>
                </a:solidFill>
                <a:latin typeface="Tahoma"/>
              </a:rPr>
              <a:t>算法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使用信息增益进行属性选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210168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901"/>
              </a:spcBef>
              <a:buClr>
                <a:srgbClr val="a50021"/>
              </a:buClr>
              <a:buSzPct val="8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21328"/>
                </a:solidFill>
                <a:latin typeface="Times New Roman"/>
              </a:rPr>
              <a:t>Class P: buys_computer = “yes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901"/>
              </a:spcBef>
              <a:buClr>
                <a:srgbClr val="a50021"/>
              </a:buClr>
              <a:buSzPct val="8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21328"/>
                </a:solidFill>
                <a:latin typeface="Times New Roman"/>
              </a:rPr>
              <a:t>Class N: buys_computer = “no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901"/>
              </a:spcBef>
              <a:buClr>
                <a:srgbClr val="a50021"/>
              </a:buClr>
              <a:buSzPct val="8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21328"/>
                </a:solidFill>
                <a:latin typeface="Times New Roman"/>
              </a:rPr>
              <a:t>I(p, n) = I(9, 5) =0.94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901"/>
              </a:spcBef>
              <a:buClr>
                <a:srgbClr val="a50021"/>
              </a:buClr>
              <a:buSzPct val="8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21328"/>
                </a:solidFill>
                <a:latin typeface="Times New Roman"/>
              </a:rPr>
              <a:t>Compute the entropy for </a:t>
            </a:r>
            <a:r>
              <a:rPr b="0" i="1" lang="zh-CN" sz="2400" spc="-1" strike="noStrike">
                <a:solidFill>
                  <a:srgbClr val="121328"/>
                </a:solidFill>
                <a:latin typeface="Times New Roman"/>
              </a:rPr>
              <a:t>age</a:t>
            </a:r>
            <a:r>
              <a:rPr b="0" lang="zh-CN" sz="2400" spc="-1" strike="noStrike">
                <a:solidFill>
                  <a:srgbClr val="121328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97360" y="1599840"/>
            <a:ext cx="3965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21328"/>
                </a:solidFill>
                <a:latin typeface="Times New Roman"/>
              </a:rPr>
              <a:t>Henc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21328"/>
                </a:solidFill>
                <a:latin typeface="Times New Roman"/>
              </a:rPr>
              <a:t>Similarl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14400" y="5342040"/>
          <a:ext cx="3354480" cy="143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342040"/>
                    <a:ext cx="3354480" cy="14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876920" y="2095560"/>
                <a:ext cx="36194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g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2,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4,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3,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857840" y="5334120"/>
                <a:ext cx="359388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a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ncom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a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tuden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a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edi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ating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857840" y="4000680"/>
                <a:ext cx="4038480" cy="38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a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g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g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70981"/>
                </a:solidFill>
                <a:latin typeface="Times New Roman"/>
              </a:rPr>
              <a:t>Decision Tree (</a:t>
            </a:r>
            <a:r>
              <a:rPr b="1" lang="zh-CN" sz="3600" spc="-1" strike="noStrike">
                <a:solidFill>
                  <a:srgbClr val="170981"/>
                </a:solidFill>
                <a:latin typeface="Times New Roman"/>
              </a:rPr>
              <a:t>结果输出</a:t>
            </a:r>
            <a:r>
              <a:rPr b="1" lang="zh-CN" sz="3600" spc="-1" strike="noStrike">
                <a:solidFill>
                  <a:srgbClr val="170981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31960" y="1901880"/>
            <a:ext cx="744480" cy="458280"/>
          </a:xfrm>
          <a:prstGeom prst="rect">
            <a:avLst/>
          </a:prstGeom>
          <a:solidFill>
            <a:srgbClr val="00ccff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ge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99760" y="28764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overcas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93080" y="3790800"/>
            <a:ext cx="1203120" cy="458280"/>
          </a:xfrm>
          <a:prstGeom prst="rect">
            <a:avLst/>
          </a:prstGeom>
          <a:solidFill>
            <a:srgbClr val="00ffcc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tudent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7960" y="3790800"/>
            <a:ext cx="1806480" cy="458280"/>
          </a:xfrm>
          <a:prstGeom prst="rect">
            <a:avLst/>
          </a:prstGeom>
          <a:solidFill>
            <a:srgbClr val="99ccff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redit rating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86920" y="475776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50400" y="4757760"/>
            <a:ext cx="59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11680" y="4772160"/>
            <a:ext cx="61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fai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76200" y="4786200"/>
            <a:ext cx="1288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excellen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308320" y="2394000"/>
            <a:ext cx="992160" cy="132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900600" y="2440080"/>
            <a:ext cx="1440" cy="54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65520" y="2470320"/>
            <a:ext cx="1489320" cy="13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44880" y="2819520"/>
            <a:ext cx="837360" cy="45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&lt;=3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77800" y="2936880"/>
            <a:ext cx="66348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&gt;4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479240" y="4344840"/>
            <a:ext cx="493560" cy="51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08200" y="4390920"/>
            <a:ext cx="420840" cy="42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454360" y="4390920"/>
            <a:ext cx="344520" cy="45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34280" y="4405320"/>
            <a:ext cx="328320" cy="3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30280" y="522936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5160" y="518328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16640" y="519912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4880" y="519912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02040" y="329400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85480" y="5634000"/>
            <a:ext cx="489960" cy="45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70040" y="5634000"/>
            <a:ext cx="489960" cy="45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47520" y="5634000"/>
            <a:ext cx="591840" cy="458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19240" y="5634000"/>
            <a:ext cx="591840" cy="458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06120" y="3794040"/>
            <a:ext cx="591840" cy="458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52680" y="2971800"/>
            <a:ext cx="1067040" cy="304920"/>
          </a:xfrm>
          <a:prstGeom prst="rect">
            <a:avLst/>
          </a:prstGeom>
          <a:solidFill>
            <a:srgbClr val="ffff00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30..40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checker dir="horz"/>
      </p:transition>
    </mc:Choice>
    <mc:Fallback>
      <p:transition spd="slow">
        <p:checker dir="horz"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2a3d7a"/>
                </a:solidFill>
                <a:latin typeface="Times New Roman"/>
              </a:rPr>
              <a:t>基尼指数  </a:t>
            </a:r>
            <a:r>
              <a:rPr b="0" i="1" lang="zh-CN" sz="4400" spc="-1" strike="noStrike">
                <a:solidFill>
                  <a:srgbClr val="2a3d7a"/>
                </a:solidFill>
                <a:latin typeface="Times New Roman"/>
              </a:rPr>
              <a:t>Gini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 Index (IBM IntelligentMiner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09160" y="1981080"/>
            <a:ext cx="8705880" cy="46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集合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包含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个类别的记录，那么其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Gini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指标就是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i="1" lang="zh-CN" sz="28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i="1" lang="zh-CN" sz="2800" spc="-1" strike="noStrike" baseline="-25000">
                <a:solidFill>
                  <a:srgbClr val="5b5249"/>
                </a:solidFill>
                <a:latin typeface="Times New Roman"/>
              </a:rPr>
              <a:t>j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类别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j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出现的频率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如果集合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分成两部分 </a:t>
            </a:r>
            <a:r>
              <a:rPr b="0" i="1" lang="zh-CN" sz="28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i="1" lang="zh-CN" sz="2800" spc="-1" strike="noStrike" baseline="-25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and </a:t>
            </a:r>
            <a:r>
              <a:rPr b="0" i="1" lang="zh-CN" sz="28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i="1" lang="zh-CN" sz="28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。那么这个分割的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Gini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就是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提供最小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Gini</a:t>
            </a:r>
            <a:r>
              <a:rPr b="0" lang="zh-CN" sz="2800" spc="-1" strike="noStrike" baseline="-25000">
                <a:solidFill>
                  <a:srgbClr val="5b5249"/>
                </a:solidFill>
                <a:latin typeface="Times New Roman"/>
              </a:rPr>
              <a:t>split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就被选择作为分割的标准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cc0000"/>
                </a:solidFill>
                <a:latin typeface="Times New Roman"/>
              </a:rPr>
              <a:t>对于每个属性都要遍历所有可以的分割方法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419720" y="2362320"/>
                <a:ext cx="30477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in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362320" y="3733920"/>
                <a:ext cx="64436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in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li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gin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gin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>
        <p:checker dir="horz"/>
      </p:transition>
    </mc:Choice>
    <mc:Fallback>
      <p:transition spd="slow">
        <p:checker dir="horz"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预备知识二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(Pruning Tree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目的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消除决策树的过适应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(OverFitting)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问题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实质：消除训练集中的异常和噪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两种方法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先剪枝法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(Public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算法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后剪枝法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(Sprint 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算法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两种剪枝标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最小描述长度原则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(MDL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思想：最简单的解释最期望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做法：对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Decision-Tree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进行二进位编码，编码所需二进位最少的树即为“最佳剪枝树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期望错误率最小原则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思想：选择期望错误率最小的子树进行剪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对树中的</a:t>
            </a:r>
            <a:r>
              <a:rPr b="0" lang="zh-CN" sz="2800" spc="-1" strike="noStrike">
                <a:solidFill>
                  <a:srgbClr val="ea550a"/>
                </a:solidFill>
                <a:latin typeface="Times New Roman"/>
              </a:rPr>
              <a:t>内部节点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计算其剪枝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不剪枝可能出现的期望错误率，比较后加以取舍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st of Encoding Data Record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对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条记录进行分类编码的代价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(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种方法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n ——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记录数，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k ——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类数目，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属于类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的记录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798480" y="2666880"/>
                <a:ext cx="792972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98560" y="4494240"/>
                <a:ext cx="799632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  <m:r>
                          <m:rPr>
                            <m:lit/>
                            <m:nor/>
                          </m:rPr>
                          <m:t xml:space="preserve">*log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t xml:space="preserve">Γ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st of Encoding Tre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编码树结构本身的代价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编码每个分裂节点的代价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确定分类属性的代价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确定分类属性值的代价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其中，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v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是该节点上不同属性值的个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编码每个树叶上的记录分类的代价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210200" y="4229280"/>
                <a:ext cx="20952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v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209680" y="4267080"/>
                <a:ext cx="1524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剪枝算法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设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为欲计算其最小代价的节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两种情形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是叶结点——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C(S)+1     ——Cost1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是内部节点，有两个子节点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N1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N2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已剪去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N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N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成为叶子节点 ——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Cost1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计算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节点及其子树的代价，使用递归过程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Csplit(N)+1+minCost1+minCost2   ——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Cost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比较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Cost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Cost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，选取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代价较小者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作为返回值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计算最小子树代价的伪代码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1752480"/>
            <a:ext cx="7162560" cy="48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Procedure ComputeCost&amp;Prune(Node N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if N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是叶子节点，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return (C(S)+1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minCost1=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Compute&amp;Prune(Node N1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minCost2=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Compute&amp;Prune(Node N2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minCostN=min{C(S)+1,Csplit(N)+1+minCost1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             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+minCost2}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if minCostN=C(S)+1 Prune child nodes N1 and N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return minCost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概述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一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传统挖掘方法的局限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只重视从数据库中提取规则，忽视了库中数据的变化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挖掘所用的数据来自稳定的环境，人为干预较少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引入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Public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算法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一般做法：先建树，后剪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Public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算法：建树的同时进行剪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思想：在一定量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用户定义参数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的节点分裂后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周期性的进行部分树的剪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存在的问题：可能高估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(Over-Estimate)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被剪节点的值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改进：采纳低估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(Under-Estimate)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节点代价的策略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具体思路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三种叶节点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有待扩展：需计算子树代价下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不能扩展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纯节点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剪枝后的结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35812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33908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C(S)+1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改进算法的伪代码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Procedure ComputCoste&amp;Prune(Node N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If N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是仍待扩展的结点，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return N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节点的代价下界   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If  N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是纯节点或不可扩展的叶节点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 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return (C(S)+1)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两个子节点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N1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N2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minCost1=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Compute&amp;Prune(Node N1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minCost2=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Compute&amp;Prune(Node N2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minCostN=min{C(S)+1,Csplit(N)+1+minCost1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                      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+minCost2}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if minCostN=C(S)+1 Prune child nodes N1 and N2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return minCost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计算子树代价下界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Public(1)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假设节点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的代价至少是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Public(S)    S —— spl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计算以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为根且包含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个分裂点的子树代价的下界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包括确定分裂节点属性的代价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Public(V)     V ——split valu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同上，还包括确定分裂节点值的代价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Public(S)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算法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一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相关概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717560" y="2333520"/>
          <a:ext cx="5810400" cy="30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333520"/>
                    <a:ext cx="5810400" cy="30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1" name="table1" descr=""/>
          <p:cNvPicPr/>
          <p:nvPr/>
        </p:nvPicPr>
        <p:blipFill>
          <a:blip r:embed="rId3"/>
          <a:stretch/>
        </p:blipFill>
        <p:spPr>
          <a:xfrm>
            <a:off x="3733920" y="2286000"/>
            <a:ext cx="4552920" cy="4057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Public(S)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算法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二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定理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任何以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为根结点且有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个分裂点的子树的代价至少是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2*S+1+S*log a+∑ n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i  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i=s+2..k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证明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编码树结构代价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2*S+1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确定节点分裂属性的代价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S*log a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编码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S+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个叶子结点的代价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∑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i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 i=s+2..k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Public(S)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算法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证明一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证明：编码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S+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个叶子节点的代价至少为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∑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i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 i=s+2..k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相关概念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主要类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(Majority Class):if            ,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有                       ，则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Ci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为主要类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少数类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(Minority Class): if                           the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Cj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为少数类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191280" y="3740040"/>
                <a:ext cx="6984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rPr>
                        <m:lit/>
                        <m:nor/>
                      </m:rPr>
                      <m:t xml:space="preserve">C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7238880" y="3733920"/>
                <a:ext cx="160020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Ck</m:t>
                    </m:r>
                    <m:r>
                      <m:t xml:space="preserve">∈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009960" y="4076640"/>
                <a:ext cx="14479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ij</m:t>
                    </m:r>
                    <m:r>
                      <m:t xml:space="preserve">≥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k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6172200" y="4572000"/>
                <a:ext cx="1981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j</m:t>
                    </m:r>
                    <m:r>
                      <m:t xml:space="preserve">∉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majority</m:t>
                    </m:r>
                  </m:oMath>
                </a14:m>
              </a:p>
            </p:txBody>
          </p:sp>
        </mc:Choice>
        <mc:Fallback/>
      </mc:AlternateContent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Public(S)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算法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证明二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题设：子树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有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个分裂点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(Split),K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个类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S+1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个叶子节点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至多有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S+1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个主要类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至少有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K-S-1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个少数类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取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Ci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为某少数类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,C(Sj)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为编码叶子节点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j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上记录的代价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又有                                   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C(S)&gt; ∑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ij       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编码具有类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且位于叶子节点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j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的记录的代价是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ij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所有少数类的代价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Cost= ∑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i     i∈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少数类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523880" y="2457360"/>
                <a:ext cx="55260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523880" y="2819520"/>
                <a:ext cx="5526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523880" y="3200400"/>
                <a:ext cx="5526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542960" y="4057560"/>
                <a:ext cx="55260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581120" y="5562720"/>
                <a:ext cx="5526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581120" y="5143680"/>
                <a:ext cx="5526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572000" y="4743360"/>
                <a:ext cx="55260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09680" y="3848040"/>
                <a:ext cx="58676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j</m:t>
                    </m:r>
                    <m:r>
                      <m:t xml:space="preserve">)</m:t>
                    </m:r>
                    <m:r>
                      <m:t xml:space="preserve">&gt;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∗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j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e>
                    </m:nary>
                    <m:r>
                      <m:t xml:space="preserve">∗</m:t>
                    </m:r>
                    <m:f>
                      <m:num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den>
                    </m:f>
                    <m:r>
                      <m:rPr>
                        <m:lit/>
                        <m:nor/>
                      </m:rPr>
                      <m:t xml:space="preserve">*log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143160" y="4495680"/>
                <a:ext cx="12956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计算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minCost_S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的代码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Procedure computeMinCostS(Node N)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If k=1 return (C(S)+1)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S=1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tmpCost=2*S+1+S*log a +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∑i ni    i=s+2..k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While s+1&lt;k and ns+2&gt;2+log a do{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tmpCost=tmpCost+2+log a-ns+2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S++}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Return min{C(S)+1,tmpCost}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Public(S)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示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143000" y="2057400"/>
          <a:ext cx="3581280" cy="4064040"/>
        </p:xfrm>
        <a:graphic>
          <a:graphicData uri="http://schemas.openxmlformats.org/drawingml/2006/table">
            <a:tbl>
              <a:tblPr/>
              <a:tblGrid>
                <a:gridCol w="1015920"/>
                <a:gridCol w="1498680"/>
                <a:gridCol w="106668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ag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Car typ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label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truck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sport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igh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sports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Med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truck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low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65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famil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low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6172200" y="2362320"/>
            <a:ext cx="380880" cy="30456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562360" y="2666880"/>
            <a:ext cx="609480" cy="4572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53080" y="2666880"/>
            <a:ext cx="685800" cy="4572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57800" y="3124080"/>
            <a:ext cx="609480" cy="30492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3124080"/>
            <a:ext cx="685800" cy="30492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57720" y="3621240"/>
            <a:ext cx="208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[16,truck,high]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[24,sports,high]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05720" y="2362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+log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96080" y="2990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+1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3067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4080" y="2266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152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3657600"/>
            <a:ext cx="2057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[65,family,low]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[34,truck,low]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[32,sports,medi]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28800"/>
            <a:ext cx="426708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00800" y="2133720"/>
            <a:ext cx="304920" cy="30456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638320" y="2362320"/>
            <a:ext cx="762120" cy="60948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05720" y="2362320"/>
            <a:ext cx="685800" cy="60948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315200" y="2971800"/>
            <a:ext cx="304920" cy="30492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4120" y="2971800"/>
            <a:ext cx="761760" cy="30492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6552720" y="3276720"/>
            <a:ext cx="762120" cy="106668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0120" y="3276720"/>
            <a:ext cx="838080" cy="99036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48520" y="4343400"/>
            <a:ext cx="609480" cy="30492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077320" y="4343400"/>
            <a:ext cx="609480" cy="30492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008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010280" y="2038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+log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96080" y="29145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+log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77080" y="4248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96080" y="4267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3429000"/>
            <a:ext cx="22100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[16,truck,high]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[24,sports,high]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05520" y="4705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[32,sports,medi]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38880" y="4952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15200" y="4762440"/>
            <a:ext cx="1981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[65,family,low]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[34,truck,low]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概述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二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捕捉新旧数据变化的目的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挖掘出变化的趋势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例：啤酒——尿布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阻止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延缓不利变化的发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例：金融危机——银行的信贷策略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差异挖掘算法的主要思想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550a"/>
                </a:solidFill>
                <a:latin typeface="Times New Roman"/>
              </a:rPr>
              <a:t>合理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比较新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旧数据的挖掘结果，并清晰的描述其变化部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Public(V)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算法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计算分类节点值的代价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编码叶子节点记录的代价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i=1..k   (1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在所有内部节点编码分裂节点值的代价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           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总代价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(1)+(2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其中，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Cj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是叶子节点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上的主要类；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是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S+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个叶子节点上的主要类的集合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2076480" y="2743200"/>
                <a:ext cx="3962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∉</m:t>
                        </m:r>
                        <m:r>
                          <m:t xml:space="preserve">M</m:t>
                        </m:r>
                      </m:sub>
                      <m:sup/>
                      <m:e>
                        <m:r>
                          <m:t xml:space="preserve">n</m:t>
                        </m:r>
                        <m:r>
                          <m:t xml:space="preserve">i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</m:sub>
                      <m:sup/>
                      <m:e>
                        <m:r>
                          <m:t xml:space="preserve">n</m:t>
                        </m:r>
                        <m:r>
                          <m:t xml:space="preserve">i</m:t>
                        </m:r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  <m:r>
                          <m:t xml:space="preserve">j</m:t>
                        </m:r>
                        <m:r>
                          <m:t xml:space="preserve">j</m:t>
                        </m:r>
                        <m:r>
                          <m:t xml:space="preserve">|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133720" y="3772080"/>
                <a:ext cx="57150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  <m:r>
                          <m:t xml:space="preserve">j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  <m:r>
                          <m:t xml:space="preserve">j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算法比较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Sprint: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传统的二阶段“构造－剪枝”算法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Public(1):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用保守的估计值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取代欲扩展节点的代价下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Public(S):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考虑具有分裂点的子树，同时计算为确定分裂节点及其属性的代价下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Public(V):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比前者准确，需计算确定结点上属性值的代价下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实验数据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(Real-life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09480" y="1397160"/>
          <a:ext cx="8153640" cy="2732040"/>
        </p:xfrm>
        <a:graphic>
          <a:graphicData uri="http://schemas.openxmlformats.org/drawingml/2006/table">
            <a:tbl>
              <a:tblPr/>
              <a:tblGrid>
                <a:gridCol w="1165320"/>
                <a:gridCol w="1087560"/>
                <a:gridCol w="853920"/>
                <a:gridCol w="1008000"/>
                <a:gridCol w="1165320"/>
                <a:gridCol w="932040"/>
                <a:gridCol w="1087200"/>
                <a:gridCol w="854280"/>
              </a:tblGrid>
              <a:tr h="48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DataSet 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Cann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Ca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Lett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Satimage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shuttle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vehicle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yeas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NO_CA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48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NO_NA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N_Clas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N_R(Te)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14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567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6632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4500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559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001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N_R(Tr)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496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161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3368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4435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43500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559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001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实验结果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一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04920" y="1809720"/>
          <a:ext cx="8839080" cy="3751200"/>
        </p:xfrm>
        <a:graphic>
          <a:graphicData uri="http://schemas.openxmlformats.org/drawingml/2006/table">
            <a:tbl>
              <a:tblPr/>
              <a:tblGrid>
                <a:gridCol w="1238040"/>
                <a:gridCol w="971640"/>
                <a:gridCol w="1143000"/>
                <a:gridCol w="1066680"/>
                <a:gridCol w="1105200"/>
                <a:gridCol w="1104840"/>
                <a:gridCol w="1104840"/>
                <a:gridCol w="110484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Datese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DS1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DS2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DS3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DS4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DS5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DS6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DS7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Sprint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7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3265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657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53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89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325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Public1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7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83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3215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565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53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41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37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PublicS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71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979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457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53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15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69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PublicV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65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875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435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53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07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63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Max rat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40%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48%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4%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51%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0%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77%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9%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Nodes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37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991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85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43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3314880" y="5810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产生的节点数目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实验结果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二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04920" y="2190600"/>
          <a:ext cx="8839080" cy="3195720"/>
        </p:xfrm>
        <a:graphic>
          <a:graphicData uri="http://schemas.openxmlformats.org/drawingml/2006/table">
            <a:tbl>
              <a:tblPr/>
              <a:tblGrid>
                <a:gridCol w="1238040"/>
                <a:gridCol w="971640"/>
                <a:gridCol w="1143000"/>
                <a:gridCol w="1066680"/>
                <a:gridCol w="1105200"/>
                <a:gridCol w="1104840"/>
                <a:gridCol w="1104840"/>
                <a:gridCol w="110484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Datese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DS1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DS2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DS3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DS4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DS5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DS6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DS7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Sprint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0.87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.59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334.9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77.65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30.62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1.98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6.65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Public1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0.82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.51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85.56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67.78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29.21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0.58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5.55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PublicS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0.83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.44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89.70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66.44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30.26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.81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4.94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PublicV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0.81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.45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300.48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59.83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27.26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.64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4.89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Max rat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%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0%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7%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1%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%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%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3%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"/>
          <p:cNvSpPr/>
          <p:nvPr/>
        </p:nvSpPr>
        <p:spPr>
          <a:xfrm>
            <a:off x="3581280" y="5810400"/>
            <a:ext cx="21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执行时间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算法结果分析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总体上，比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Sprint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算法有较大改进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相对于最后的剪枝树仍有多余的结点，有待改进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挖掘效率与数据分布及噪声有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言归正传—捕捉数据变化的挖掘方法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新生成一棵决策树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与旧树完全没有关系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生成一棵相关的树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未达到旧树中叶节点的深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超出了旧树中相应节点的深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601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相同的属性，最好的划分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(best cut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601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相同的属性，相同的划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方法三的对应算法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使新树与旧树有相同的属性和划分，且能及早停止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测试在旧树中每个叶子节点的错误变化的情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进一步生成新的树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剪枝移除那些无预测特性的分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比较新、旧树，识别变化部分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标识几种不同的变化类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区域的连接：旧树中的划分不必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边界的移动：旧树中的划分移到了新的位置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进一步细化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(Refinement):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旧树中的叶结点不足以描述新生成数据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类标号变化：旧树中的节点类标号发生了变化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550a"/>
                </a:solidFill>
                <a:latin typeface="Times New Roman"/>
              </a:rPr>
              <a:t>错误率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的变化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550a"/>
                </a:solidFill>
                <a:latin typeface="Times New Roman"/>
              </a:rPr>
              <a:t>覆盖率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的变化：某个节点具有的数据量的比率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小结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Building Decision Tree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算法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Pruning Decision Tree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算法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Public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算法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Public(1)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算法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Public(s)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算法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Public(v)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算法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识别数据变化的挖掘算法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预备知识一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(Building Tree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基本思想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用途：提取分类规则，进行分类预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143000" y="3581280"/>
            <a:ext cx="7543800" cy="2743200"/>
            <a:chOff x="1143000" y="3581280"/>
            <a:chExt cx="7543800" cy="2743200"/>
          </a:xfrm>
        </p:grpSpPr>
        <p:grpSp>
          <p:nvGrpSpPr>
            <p:cNvPr id="99" name=""/>
            <p:cNvGrpSpPr/>
            <p:nvPr/>
          </p:nvGrpSpPr>
          <p:grpSpPr>
            <a:xfrm>
              <a:off x="1143000" y="3581280"/>
              <a:ext cx="7543800" cy="2743200"/>
              <a:chOff x="1143000" y="3581280"/>
              <a:chExt cx="7543800" cy="27432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143000" y="3581280"/>
                <a:ext cx="7543800" cy="2743200"/>
                <a:chOff x="1143000" y="3581280"/>
                <a:chExt cx="7543800" cy="274320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1143000" y="3581280"/>
                  <a:ext cx="7543800" cy="2743200"/>
                  <a:chOff x="1143000" y="3581280"/>
                  <a:chExt cx="7543800" cy="27432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>
                    <a:off x="1143000" y="3581280"/>
                    <a:ext cx="7543800" cy="2743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5b524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1600200" y="4267080"/>
                    <a:ext cx="990720" cy="304920"/>
                  </a:xfrm>
                  <a:prstGeom prst="ellipse">
                    <a:avLst/>
                  </a:prstGeom>
                  <a:solidFill>
                    <a:srgbClr val="c9ddf1"/>
                  </a:solidFill>
                  <a:ln w="9360">
                    <a:solidFill>
                      <a:srgbClr val="5b524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1600200" y="4419720"/>
                    <a:ext cx="0" cy="761760"/>
                  </a:xfrm>
                  <a:prstGeom prst="line">
                    <a:avLst/>
                  </a:prstGeom>
                  <a:ln w="9360">
                    <a:solidFill>
                      <a:srgbClr val="5b524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1600200" y="5105520"/>
                    <a:ext cx="990720" cy="304560"/>
                  </a:xfrm>
                  <a:prstGeom prst="ellipse">
                    <a:avLst/>
                  </a:prstGeom>
                  <a:solidFill>
                    <a:srgbClr val="c9ddf1"/>
                  </a:solidFill>
                  <a:ln w="9360">
                    <a:solidFill>
                      <a:srgbClr val="5b524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2590920" y="4876920"/>
                    <a:ext cx="914400" cy="0"/>
                  </a:xfrm>
                  <a:prstGeom prst="line">
                    <a:avLst/>
                  </a:prstGeom>
                  <a:ln w="28440">
                    <a:solidFill>
                      <a:srgbClr val="5b524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3505320" y="4419720"/>
                    <a:ext cx="2209680" cy="9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5b524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5b5249"/>
                        </a:solidFill>
                        <a:latin typeface="Times New Roman"/>
                      </a:rPr>
                      <a:t>判定树分类算法</a:t>
                    </a:r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7620120" y="3733920"/>
                    <a:ext cx="304920" cy="228600"/>
                  </a:xfrm>
                  <a:prstGeom prst="ellipse">
                    <a:avLst/>
                  </a:prstGeom>
                  <a:solidFill>
                    <a:srgbClr val="c9ddf1"/>
                  </a:solidFill>
                  <a:ln w="9360">
                    <a:solidFill>
                      <a:srgbClr val="5b524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7239240" y="3962520"/>
                    <a:ext cx="457200" cy="457200"/>
                  </a:xfrm>
                  <a:prstGeom prst="line">
                    <a:avLst/>
                  </a:prstGeom>
                  <a:ln w="9360">
                    <a:solidFill>
                      <a:srgbClr val="5b524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7848720" y="3962520"/>
                    <a:ext cx="609480" cy="457200"/>
                  </a:xfrm>
                  <a:prstGeom prst="line">
                    <a:avLst/>
                  </a:prstGeom>
                  <a:ln w="9360">
                    <a:solidFill>
                      <a:srgbClr val="5b524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7086600" y="4419720"/>
                    <a:ext cx="304920" cy="304560"/>
                  </a:xfrm>
                  <a:prstGeom prst="ellipse">
                    <a:avLst/>
                  </a:prstGeom>
                  <a:solidFill>
                    <a:srgbClr val="c9ddf1"/>
                  </a:solidFill>
                  <a:ln w="9360">
                    <a:solidFill>
                      <a:srgbClr val="5b524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8344080" y="4400640"/>
                    <a:ext cx="304920" cy="304560"/>
                  </a:xfrm>
                  <a:prstGeom prst="ellipse">
                    <a:avLst/>
                  </a:prstGeom>
                  <a:solidFill>
                    <a:srgbClr val="c9ddf1"/>
                  </a:solidFill>
                  <a:ln w="9360">
                    <a:solidFill>
                      <a:srgbClr val="5b524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 flipH="1">
                    <a:off x="6553080" y="4648320"/>
                    <a:ext cx="533160" cy="380880"/>
                  </a:xfrm>
                  <a:prstGeom prst="line">
                    <a:avLst/>
                  </a:prstGeom>
                  <a:ln w="9360">
                    <a:solidFill>
                      <a:srgbClr val="5b524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7391520" y="4648320"/>
                    <a:ext cx="533520" cy="457200"/>
                  </a:xfrm>
                  <a:prstGeom prst="line">
                    <a:avLst/>
                  </a:prstGeom>
                  <a:ln w="9360">
                    <a:solidFill>
                      <a:srgbClr val="5b524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6400800" y="5029200"/>
                    <a:ext cx="304920" cy="304920"/>
                  </a:xfrm>
                  <a:prstGeom prst="ellipse">
                    <a:avLst/>
                  </a:prstGeom>
                  <a:solidFill>
                    <a:srgbClr val="c9ddf1"/>
                  </a:solidFill>
                  <a:ln w="9360">
                    <a:solidFill>
                      <a:srgbClr val="5b524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7848720" y="5029200"/>
                    <a:ext cx="304920" cy="304920"/>
                  </a:xfrm>
                  <a:prstGeom prst="ellipse">
                    <a:avLst/>
                  </a:prstGeom>
                  <a:solidFill>
                    <a:srgbClr val="c9ddf1"/>
                  </a:solidFill>
                  <a:ln w="9360">
                    <a:solidFill>
                      <a:srgbClr val="5b524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5639040" y="4419720"/>
                    <a:ext cx="1066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5b5249"/>
                        </a:solidFill>
                        <a:latin typeface="Times New Roman"/>
                      </a:rPr>
                      <a:t>output</a:t>
                    </a:r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1619280" y="5524560"/>
                    <a:ext cx="1123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5b5249"/>
                        </a:solidFill>
                        <a:latin typeface="Times New Roman"/>
                      </a:rPr>
                      <a:t>训练集</a:t>
                    </a:r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7162920" y="5448240"/>
                    <a:ext cx="114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5b5249"/>
                        </a:solidFill>
                        <a:latin typeface="Times New Roman"/>
                      </a:rPr>
                      <a:t>决策树</a:t>
                    </a:r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0" name=""/>
                <p:cNvSpPr/>
                <p:nvPr/>
              </p:nvSpPr>
              <p:spPr>
                <a:xfrm>
                  <a:off x="2590920" y="4419720"/>
                  <a:ext cx="0" cy="838080"/>
                </a:xfrm>
                <a:prstGeom prst="line">
                  <a:avLst/>
                </a:prstGeom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" name=""/>
              <p:cNvSpPr/>
              <p:nvPr/>
            </p:nvSpPr>
            <p:spPr>
              <a:xfrm>
                <a:off x="5715000" y="4876920"/>
                <a:ext cx="83808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2629080" y="44578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input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个人观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计算分裂点属性代价下界的算法代码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200400" y="3886200"/>
                <a:ext cx="12193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343400" y="4419720"/>
                <a:ext cx="97164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Procedure ComputeMinCostS(Node N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If K=1 return (C(S)+1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S=1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tmpCost=2*S+1+S*log a +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∑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i    i=s+1..k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While S+1&lt;k   and                         &gt;2+log a   do{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tmpCost=tmpCost+2+log a –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s++  }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Return      min {C(S)+1,tmpCost }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71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使用决策树进行分类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决策树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一个树性的结构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内部节点上选用一个属性进行分割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每个分叉都是分割的一个部分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叶子节点表示一个分布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决策树生成算法分成两个步骤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树的生成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开始，数据都在根节点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递归的进行数据分片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树的修剪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去掉一些可能是噪音或者异常的数据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决策树使用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对未知数据进行分割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按照决策树上采用的分割属性逐层往下，直到一个叶子节点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决策树算法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基本算法（贪心算法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0ae6a"/>
                </a:solidFill>
                <a:latin typeface="Times New Roman"/>
              </a:rPr>
              <a:t>自上而下分而治之的方法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开始时，所有的数据都在根节点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属性都是种类字段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如果是连续的，将其离散化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所有记录用所选属性递归的进行分割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属性的选择是基于一个启发式规则或者一个统计的度量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如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b0ae6a"/>
                </a:solidFill>
                <a:latin typeface="Times New Roman"/>
              </a:rPr>
              <a:t>information gain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停止分割的条件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一个节点上的数据都是属于同一个类别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没有属性可以再用于对数据进行分割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checker dir="horz"/>
      </p:transition>
    </mc:Choice>
    <mc:Fallback>
      <p:transition spd="slow">
        <p:checker dir="horz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伪代码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(Building Tree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Procedure BuildTree(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用数据集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初始化根节点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R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用根结点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初始化队列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While Q is not Empty do {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取出队列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Q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中的第一个节点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if  N 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不纯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(Pure) {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for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每一个属性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估计该节点在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上的信息增益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选出最佳的属性，将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分裂为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N1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N2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24382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380520"/>
            <a:ext cx="5410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属性选择的统计度量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480" y="1599840"/>
            <a:ext cx="862956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550a"/>
                </a:solidFill>
                <a:latin typeface="Times New Roman"/>
              </a:rPr>
              <a:t>信息增益——</a:t>
            </a:r>
            <a:r>
              <a:rPr b="0" lang="zh-CN" sz="2800" spc="-1" strike="noStrike">
                <a:solidFill>
                  <a:srgbClr val="ea550a"/>
                </a:solidFill>
                <a:latin typeface="Times New Roman"/>
              </a:rPr>
              <a:t>Information gain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(ID3/C4.5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所有属性假设都是种类字段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经过修改之后可以适用于数值字段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550a"/>
                </a:solidFill>
                <a:latin typeface="Times New Roman"/>
              </a:rPr>
              <a:t>基尼指数——</a:t>
            </a:r>
            <a:r>
              <a:rPr b="0" lang="zh-CN" sz="2800" spc="-1" strike="noStrike">
                <a:solidFill>
                  <a:srgbClr val="ea550a"/>
                </a:solidFill>
                <a:latin typeface="Times New Roman"/>
              </a:rPr>
              <a:t>Gini index</a:t>
            </a:r>
            <a:r>
              <a:rPr b="0" lang="zh-CN" sz="2800" spc="-1" strike="noStrike">
                <a:solidFill>
                  <a:srgbClr val="b0ae6a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(IBM IntelligentMiner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能够适用于种类和数值字段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checker dir="horz"/>
      </p:transition>
    </mc:Choice>
    <mc:Fallback>
      <p:transition spd="slow">
        <p:checker dir="horz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信息增益度度量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(ID3</a:t>
            </a:r>
            <a:r>
              <a:rPr b="1" lang="zh-CN" sz="4400" spc="-1" strike="noStrike">
                <a:solidFill>
                  <a:srgbClr val="2a3d7a"/>
                </a:solidFill>
                <a:latin typeface="Times New Roman"/>
              </a:rPr>
              <a:t>/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C4.5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任意样本分类的期望信息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I(s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,s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……,s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)=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－∑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i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log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(p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)    (i=1..m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45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其中，数据集为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为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的分类数目，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Ci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为某分类标号，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为任意样本属于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Ci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的概率，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i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为分类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Ci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上的样本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由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划分为子集的熵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E(A)= ∑(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1j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+ ……+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mj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)/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s *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I(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1j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+ ……+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mj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为属性，具有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V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个不同的取值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信息增益：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Gain(A)= I(s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,s2,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……,sm)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－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E(A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7924680" y="2514600"/>
                <a:ext cx="9907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7T04:28:47Z</dcterms:created>
  <dc:creator>seagull</dc:creator>
  <dc:description/>
  <dc:language>en-US</dc:language>
  <cp:lastModifiedBy>zzp</cp:lastModifiedBy>
  <dcterms:modified xsi:type="dcterms:W3CDTF">2002-04-09T03:31:36Z</dcterms:modified>
  <cp:revision>95</cp:revision>
  <dc:subject/>
  <dc:title>PowerPoint 演示文稿</dc:title>
</cp:coreProperties>
</file>