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420696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00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00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19040" y="205740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8920" y="205740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420696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19040" y="420696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8920" y="420696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00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00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00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000" y="420696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000" y="205740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420696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0004a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1004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e00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0" r="10765" b="0"/>
          <a:stretch/>
        </p:blipFill>
        <p:spPr>
          <a:xfrm>
            <a:off x="0" y="304920"/>
            <a:ext cx="1219320" cy="5562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52280" y="5791320"/>
            <a:ext cx="2210040" cy="86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e0004a"/>
                </a:solidFill>
                <a:latin typeface="Arial"/>
                <a:ea typeface="黑体"/>
              </a:rPr>
              <a:t>高效的调查研究</a:t>
            </a: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4a"/>
                </a:solidFill>
                <a:latin typeface="Arial"/>
                <a:ea typeface="宋体"/>
              </a:rPr>
              <a:t>SPSS Beijing Off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147760" y="692280"/>
            <a:ext cx="6095880" cy="3544560"/>
            <a:chOff x="2147760" y="692280"/>
            <a:chExt cx="6095880" cy="3544560"/>
          </a:xfrm>
        </p:grpSpPr>
        <p:grpSp>
          <p:nvGrpSpPr>
            <p:cNvPr id="94" name=""/>
            <p:cNvGrpSpPr/>
            <p:nvPr/>
          </p:nvGrpSpPr>
          <p:grpSpPr>
            <a:xfrm>
              <a:off x="2147760" y="692280"/>
              <a:ext cx="6095880" cy="2819160"/>
              <a:chOff x="2147760" y="692280"/>
              <a:chExt cx="6095880" cy="281916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47760" y="692280"/>
                <a:ext cx="6095880" cy="28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3519360" y="768240"/>
                <a:ext cx="2209680" cy="2742840"/>
              </a:xfrm>
              <a:prstGeom prst="rect">
                <a:avLst/>
              </a:prstGeom>
              <a:noFill/>
              <a:ln w="22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4146840" y="3716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e0004a"/>
                  </a:solidFill>
                  <a:uFillTx/>
                  <a:latin typeface="Arial"/>
                  <a:ea typeface="宋体"/>
                </a:rPr>
                <a:t>数据累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411280" y="4365720"/>
            <a:ext cx="673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　　把数据建立、收集和清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准备联接在一起。理想的工具应该可以动态完成所有这三项工作，以提高效率。它应该不仅能够同步采用多种方式，而且还可以利用最新技术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Web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76176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e0004a"/>
                </a:solidFill>
                <a:uFillTx/>
                <a:latin typeface="Arial"/>
                <a:ea typeface="宋体"/>
              </a:rPr>
              <a:t>建立调查</a:t>
            </a:r>
            <a:endParaRPr b="1" lang="en-US" sz="36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004a"/>
                </a:solidFill>
                <a:latin typeface="Arial"/>
                <a:ea typeface="宋体"/>
              </a:rPr>
              <a:t>如何提高效率</a:t>
            </a:r>
            <a:r>
              <a:rPr b="1" lang="en-US" sz="3200" spc="-1" strike="noStrike">
                <a:solidFill>
                  <a:srgbClr val="e0004a"/>
                </a:solidFill>
                <a:latin typeface="Arial"/>
                <a:ea typeface="宋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方便地建立各种问题和回答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建立常用问题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建立数据库结构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1449360" cy="1293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92280" y="404640"/>
            <a:ext cx="7083360" cy="3835440"/>
            <a:chOff x="1592280" y="404640"/>
            <a:chExt cx="7083360" cy="383544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rcRect l="0" t="0" r="0" b="7294"/>
            <a:stretch/>
          </p:blipFill>
          <p:spPr>
            <a:xfrm>
              <a:off x="1592280" y="404640"/>
              <a:ext cx="7083360" cy="38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094080" y="3325320"/>
              <a:ext cx="2461320" cy="648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2980ff"/>
                  </a:solidFill>
                  <a:uFillTx/>
                  <a:latin typeface="Arial"/>
                  <a:ea typeface="宋体"/>
                </a:rPr>
                <a:t>Data Entry Buil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53000" y="566280"/>
              <a:ext cx="4682160" cy="264996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411280" y="4508640"/>
            <a:ext cx="648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236880" y="476280"/>
            <a:ext cx="9752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方便地建立调查问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4508640"/>
            <a:ext cx="7596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004a"/>
                </a:solidFill>
                <a:latin typeface="黑体"/>
                <a:ea typeface="黑体"/>
              </a:rPr>
              <a:t>拖放：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从工具面板中拖到问卷，并可定制</a:t>
            </a:r>
            <a:br>
              <a:rPr sz="2400"/>
            </a:br>
            <a:r>
              <a:rPr b="1" lang="zh-CN" sz="2400" spc="-1" strike="noStrike">
                <a:solidFill>
                  <a:srgbClr val="e0004a"/>
                </a:solidFill>
                <a:latin typeface="黑体"/>
                <a:ea typeface="黑体"/>
              </a:rPr>
              <a:t>布局：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全面的布局和格式选项，包括单选、多选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…</a:t>
            </a:r>
            <a:br>
              <a:rPr sz="2400"/>
            </a:br>
            <a:r>
              <a:rPr b="1" lang="zh-CN" sz="2400" spc="-1" strike="noStrike">
                <a:solidFill>
                  <a:srgbClr val="e0004a"/>
                </a:solidFill>
                <a:latin typeface="黑体"/>
                <a:ea typeface="黑体"/>
              </a:rPr>
              <a:t>类型：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多种问题类型，单选、多选、开放题、矩阵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5734080"/>
            <a:ext cx="637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004a"/>
                </a:solidFill>
                <a:latin typeface="黑体"/>
                <a:ea typeface="黑体"/>
              </a:rPr>
              <a:t>问题库：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标准问题，如人口统计学信息，可以</a:t>
            </a:r>
            <a:br>
              <a:rPr sz="2400"/>
            </a:b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        保存在问题库中，方便以后调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225440" y="453960"/>
            <a:ext cx="7667280" cy="4127040"/>
            <a:chOff x="1225440" y="453960"/>
            <a:chExt cx="7667280" cy="41270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rcRect l="0" t="0" r="0" b="27086"/>
            <a:stretch/>
          </p:blipFill>
          <p:spPr>
            <a:xfrm>
              <a:off x="1225440" y="1000800"/>
              <a:ext cx="6389640" cy="358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375560" y="3404160"/>
              <a:ext cx="6090120" cy="25560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5560" y="2535120"/>
              <a:ext cx="6090120" cy="66528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rcRect l="0" t="0" r="0" b="7294"/>
            <a:stretch/>
          </p:blipFill>
          <p:spPr>
            <a:xfrm>
              <a:off x="6400800" y="453960"/>
              <a:ext cx="249192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flipH="1">
              <a:off x="5697720" y="1597680"/>
              <a:ext cx="1980360" cy="894960"/>
            </a:xfrm>
            <a:prstGeom prst="line">
              <a:avLst/>
            </a:prstGeom>
            <a:ln w="6336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16960" y="453960"/>
              <a:ext cx="5558760" cy="59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2980ff"/>
                  </a:solidFill>
                  <a:uFillTx/>
                  <a:latin typeface="Arial"/>
                  <a:ea typeface="宋体"/>
                </a:rPr>
                <a:t>Data Entry Builder &amp; SP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835280" y="1773360"/>
            <a:ext cx="4032000" cy="243720"/>
          </a:xfrm>
          <a:prstGeom prst="rect">
            <a:avLst/>
          </a:prstGeom>
          <a:solidFill>
            <a:srgbClr val="cc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宋体"/>
                <a:ea typeface="宋体"/>
              </a:rPr>
              <a:t>问题一包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mail, outbound, web, other</a:t>
            </a:r>
            <a:r>
              <a:rPr b="1" lang="zh-CN" sz="1600" spc="-1" strike="noStrike">
                <a:solidFill>
                  <a:srgbClr val="000099"/>
                </a:solidFill>
                <a:latin typeface="Arial"/>
                <a:ea typeface="宋体"/>
              </a:rPr>
              <a:t>。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  <a:ea typeface="宋体"/>
              </a:rPr>
              <a:t>这是一个多重选择题，需放在一起分析。</a:t>
            </a:r>
            <a:r>
              <a:rPr b="0" lang="zh-CN" sz="1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922560"/>
            <a:ext cx="2087640" cy="48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宋体"/>
                <a:ea typeface="宋体"/>
              </a:rPr>
              <a:t>问题二：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Long</a:t>
            </a:r>
            <a:br>
              <a:rPr sz="1600"/>
            </a:br>
            <a:r>
              <a:rPr b="1" lang="zh-CN" sz="1600" spc="-1" strike="noStrike">
                <a:solidFill>
                  <a:srgbClr val="000099"/>
                </a:solidFill>
                <a:latin typeface="宋体"/>
                <a:ea typeface="宋体"/>
              </a:rPr>
              <a:t>问题三</a:t>
            </a:r>
            <a:r>
              <a:rPr b="1" lang="en-US" sz="1600" spc="-1" strike="noStrike">
                <a:solidFill>
                  <a:srgbClr val="000099"/>
                </a:solidFill>
                <a:latin typeface="宋体"/>
                <a:ea typeface="宋体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Industry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869000"/>
            <a:ext cx="648036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0004a"/>
                </a:solidFill>
                <a:uFillTx/>
                <a:latin typeface="宋体"/>
                <a:ea typeface="宋体"/>
              </a:rPr>
              <a:t>同步建立数据库结构：</a:t>
            </a:r>
            <a:br>
              <a:rPr sz="2800"/>
            </a:b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　　在问题设计好以后，相应的数据库结构也建立好了，并包含数据有效性验证规则。您无需在重新定义数据库，不仅节省了时间，还提高了精度和可靠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828800" y="1371600"/>
            <a:ext cx="6095880" cy="3544920"/>
            <a:chOff x="1828800" y="1371600"/>
            <a:chExt cx="6095880" cy="3544920"/>
          </a:xfrm>
        </p:grpSpPr>
        <p:grpSp>
          <p:nvGrpSpPr>
            <p:cNvPr id="121" name=""/>
            <p:cNvGrpSpPr/>
            <p:nvPr/>
          </p:nvGrpSpPr>
          <p:grpSpPr>
            <a:xfrm>
              <a:off x="1828800" y="1371600"/>
              <a:ext cx="6095880" cy="2819520"/>
              <a:chOff x="1828800" y="1371600"/>
              <a:chExt cx="6095880" cy="2819520"/>
            </a:xfrm>
          </p:grpSpPr>
          <p:pic>
            <p:nvPicPr>
              <p:cNvPr id="1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8800" y="1371600"/>
                <a:ext cx="6095880" cy="28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3200400" y="1447920"/>
                <a:ext cx="2209680" cy="2743200"/>
              </a:xfrm>
              <a:prstGeom prst="rect">
                <a:avLst/>
              </a:prstGeom>
              <a:noFill/>
              <a:ln w="22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835800" y="4395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e0004a"/>
                  </a:solidFill>
                  <a:uFillTx/>
                  <a:latin typeface="Arial"/>
                  <a:ea typeface="宋体"/>
                </a:rPr>
                <a:t>数据累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95480" y="761760"/>
            <a:ext cx="3810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0004a"/>
                </a:solidFill>
                <a:uFillTx/>
                <a:latin typeface="Arial"/>
                <a:ea typeface="宋体"/>
              </a:rPr>
              <a:t>数据收集</a:t>
            </a:r>
            <a:endParaRPr b="1" lang="en-US" sz="32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28564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004a"/>
                </a:solidFill>
                <a:latin typeface="Arial"/>
                <a:ea typeface="宋体"/>
              </a:rPr>
              <a:t>如何提高效率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同时采用多种调查方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最小化手工操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数据有效性验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调查问卷重复利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417600"/>
            <a:ext cx="1468440" cy="1411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332000" y="404640"/>
            <a:ext cx="6768720" cy="3961080"/>
            <a:chOff x="1332000" y="404640"/>
            <a:chExt cx="6768720" cy="39610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rcRect l="0" t="0" r="30470" b="6251"/>
            <a:stretch/>
          </p:blipFill>
          <p:spPr>
            <a:xfrm>
              <a:off x="1332000" y="404640"/>
              <a:ext cx="649260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440240" y="3076920"/>
              <a:ext cx="3660480" cy="858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ff"/>
                  </a:solidFill>
                  <a:uFillTx/>
                  <a:latin typeface="Arial"/>
                  <a:ea typeface="宋体"/>
                </a:rPr>
                <a:t>Data Entry Enterprise Server (DE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8003160" y="430200"/>
            <a:ext cx="1013760" cy="4294080"/>
          </a:xfrm>
          <a:custGeom>
            <a:avLst/>
            <a:gdLst>
              <a:gd name="textAreaLeft" fmla="*/ 49320 w 1013760"/>
              <a:gd name="textAreaRight" fmla="*/ 964440 w 1013760"/>
              <a:gd name="textAreaTop" fmla="*/ 49320 h 4294080"/>
              <a:gd name="textAreaBottom" fmla="*/ 4244760 h 4294080"/>
            </a:gdLst>
            <a:ahLst/>
            <a:rect l="textAreaLeft" t="textAreaTop" r="textAreaRight" b="textAreaBottom"/>
            <a:pathLst>
              <a:path w="21600" h="91468">
                <a:moveTo>
                  <a:pt x="3600" y="0"/>
                </a:moveTo>
                <a:arcTo wR="3600" hR="3600" stAng="16200000" swAng="-5400000"/>
                <a:lnTo>
                  <a:pt x="0" y="87868"/>
                </a:lnTo>
                <a:arcTo wR="3600" hR="3600" stAng="10800000" swAng="-5400000"/>
                <a:lnTo>
                  <a:pt x="18000" y="91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fe82"/>
          </a:solidFill>
          <a:ln w="19080">
            <a:solidFill>
              <a:srgbClr val="990000"/>
            </a:solidFill>
            <a:miter/>
          </a:ln>
          <a:effectLst>
            <a:outerShdw dist="107932" dir="8100000" blurRad="0" rotWithShape="0">
              <a:srgbClr val="006b6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Arial"/>
                <a:ea typeface="黑体"/>
              </a:rPr>
              <a:t>同时采用多种方式：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Web,Email, 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电话访问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, 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面谈。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数据保存在同一个数据库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4797360"/>
            <a:ext cx="640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4581360"/>
            <a:ext cx="666144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黑体"/>
                <a:ea typeface="黑体"/>
              </a:rPr>
              <a:t>最小化手工操作：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宋体"/>
                <a:ea typeface="宋体"/>
              </a:rPr>
              <a:t>　　收集到的数据直接存放到数据库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黑体"/>
                <a:ea typeface="黑体"/>
              </a:rPr>
              <a:t>数据有效性验证：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  <a:ea typeface="宋体"/>
              </a:rPr>
              <a:t>Data Entry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  <a:ea typeface="宋体"/>
              </a:rPr>
              <a:t>自动建立验证规则：跳转、取值范围、逻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黑体"/>
                <a:ea typeface="黑体"/>
              </a:rPr>
              <a:t>调查问卷重复利用：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宋体"/>
                <a:ea typeface="宋体"/>
              </a:rPr>
              <a:t>　　稍加修改就可以用于新一轮跟踪调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828800" y="1371600"/>
            <a:ext cx="6095880" cy="3544920"/>
            <a:chOff x="1828800" y="1371600"/>
            <a:chExt cx="6095880" cy="3544920"/>
          </a:xfrm>
        </p:grpSpPr>
        <p:grpSp>
          <p:nvGrpSpPr>
            <p:cNvPr id="135" name=""/>
            <p:cNvGrpSpPr/>
            <p:nvPr/>
          </p:nvGrpSpPr>
          <p:grpSpPr>
            <a:xfrm>
              <a:off x="1828800" y="1371600"/>
              <a:ext cx="6095880" cy="2819520"/>
              <a:chOff x="1828800" y="1371600"/>
              <a:chExt cx="6095880" cy="281952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8800" y="1371600"/>
                <a:ext cx="6095880" cy="28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3200400" y="1447920"/>
                <a:ext cx="2209680" cy="2743200"/>
              </a:xfrm>
              <a:prstGeom prst="rect">
                <a:avLst/>
              </a:prstGeom>
              <a:noFill/>
              <a:ln w="22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835800" y="4395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e0004a"/>
                  </a:solidFill>
                  <a:uFillTx/>
                  <a:latin typeface="Arial"/>
                  <a:ea typeface="宋体"/>
                </a:rPr>
                <a:t>数据累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5120" y="761760"/>
            <a:ext cx="586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e0004a"/>
                </a:solidFill>
                <a:uFillTx/>
                <a:latin typeface="Arial"/>
                <a:ea typeface="宋体"/>
              </a:rPr>
              <a:t>数据清理和准备</a:t>
            </a:r>
            <a:endParaRPr b="1" lang="en-US" sz="36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004a"/>
                </a:solidFill>
                <a:latin typeface="Arial"/>
                <a:ea typeface="宋体"/>
              </a:rPr>
              <a:t>如何提高效率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建立数据结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清理数据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调查信息重新编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141560" y="304920"/>
            <a:ext cx="1524960" cy="1523880"/>
            <a:chOff x="1141560" y="304920"/>
            <a:chExt cx="1524960" cy="152388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1217520" y="457200"/>
              <a:ext cx="1449000" cy="12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141560" y="304920"/>
              <a:ext cx="1523880" cy="1523880"/>
            </a:xfrm>
            <a:prstGeom prst="ellipse">
              <a:avLst/>
            </a:prstGeom>
            <a:noFill/>
            <a:ln w="69840">
              <a:solidFill>
                <a:srgbClr val="df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355760" y="457200"/>
              <a:ext cx="1066320" cy="1142640"/>
            </a:xfrm>
            <a:prstGeom prst="line">
              <a:avLst/>
            </a:prstGeom>
            <a:ln w="69840">
              <a:solidFill>
                <a:srgbClr val="df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366920" y="260280"/>
            <a:ext cx="5726160" cy="4032000"/>
            <a:chOff x="1366920" y="260280"/>
            <a:chExt cx="5726160" cy="40320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rcRect l="0" t="0" r="25003" b="22917"/>
            <a:stretch/>
          </p:blipFill>
          <p:spPr>
            <a:xfrm>
              <a:off x="1366920" y="781920"/>
              <a:ext cx="4619520" cy="351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"/>
            <a:srcRect l="0" t="0" r="30470" b="6251"/>
            <a:stretch/>
          </p:blipFill>
          <p:spPr>
            <a:xfrm>
              <a:off x="5168520" y="734400"/>
              <a:ext cx="192456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flipH="1">
              <a:off x="4253760" y="1351440"/>
              <a:ext cx="962280" cy="0"/>
            </a:xfrm>
            <a:prstGeom prst="line">
              <a:avLst/>
            </a:prstGeom>
            <a:ln w="6336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7400" y="1256400"/>
              <a:ext cx="2742840" cy="47412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1280" y="260280"/>
              <a:ext cx="4186440" cy="569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2980ff"/>
                  </a:solidFill>
                  <a:uFillTx/>
                  <a:latin typeface="Arial"/>
                  <a:ea typeface="宋体"/>
                </a:rPr>
                <a:t>DEES &amp; SP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991720" y="404640"/>
            <a:ext cx="1522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97120" y="628560"/>
            <a:ext cx="1689840" cy="3872160"/>
          </a:xfrm>
          <a:custGeom>
            <a:avLst/>
            <a:gdLst>
              <a:gd name="textAreaLeft" fmla="*/ 82440 w 1689840"/>
              <a:gd name="textAreaRight" fmla="*/ 1607400 w 1689840"/>
              <a:gd name="textAreaTop" fmla="*/ 82440 h 3872160"/>
              <a:gd name="textAreaBottom" fmla="*/ 3789720 h 3872160"/>
            </a:gdLst>
            <a:ahLst/>
            <a:rect l="textAreaLeft" t="textAreaTop" r="textAreaRight" b="textAreaBottom"/>
            <a:pathLst>
              <a:path w="21600" h="49489">
                <a:moveTo>
                  <a:pt x="3600" y="0"/>
                </a:moveTo>
                <a:arcTo wR="3600" hR="3600" stAng="16200000" swAng="-5400000"/>
                <a:lnTo>
                  <a:pt x="0" y="45889"/>
                </a:lnTo>
                <a:arcTo wR="3600" hR="3600" stAng="10800000" swAng="-5400000"/>
                <a:lnTo>
                  <a:pt x="18000" y="494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fe82"/>
          </a:solidFill>
          <a:ln w="19080">
            <a:solidFill>
              <a:srgbClr val="99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Arial"/>
                <a:ea typeface="黑体"/>
              </a:rPr>
              <a:t>建立数据结构：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　　如果您设计问卷用的是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Data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Entry, 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这一步骤可以省略，因为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它在设计问卷时已帮您完成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4365720"/>
            <a:ext cx="6480360" cy="13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Arial"/>
                <a:ea typeface="黑体"/>
              </a:rPr>
              <a:t>数据清理：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　　如果您用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Data Entry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进行问卷设计和收集，这一步骤同样可以省略，因为它已为您添加了数据验证规则，数据在录入过程中已经自动进行了清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Arial"/>
                <a:ea typeface="黑体"/>
              </a:rPr>
              <a:t>调查信息重新编码：</a:t>
            </a:r>
            <a:br>
              <a:rPr sz="2000"/>
            </a:b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Data Entry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同样在问卷设计时帮您完成了这一步骤。变量和变量取值都根据问题的描述加上了标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7617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e0004a"/>
                </a:solidFill>
                <a:latin typeface="Arial"/>
                <a:ea typeface="宋体"/>
              </a:rPr>
              <a:t>调查研究的目标：</a:t>
            </a:r>
            <a:endParaRPr b="1" lang="en-US" sz="5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391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1004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发新的客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1004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客户保持力和满意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1004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较少的时间收集精确的数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1004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够即时对数据进行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1004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得到可行动的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1004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定制的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724280"/>
            <a:ext cx="655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004a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e0004a"/>
                </a:solidFill>
                <a:latin typeface="Arial"/>
                <a:ea typeface="宋体"/>
              </a:rPr>
              <a:t>快速得到可靠的研究结果！</a:t>
            </a:r>
            <a:r>
              <a:rPr b="1" lang="en-US" sz="3600" spc="-1" strike="noStrike">
                <a:solidFill>
                  <a:srgbClr val="e0004a"/>
                </a:solidFill>
                <a:latin typeface="Arial"/>
                <a:ea typeface="宋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828800" y="1371600"/>
            <a:ext cx="6095880" cy="2966760"/>
            <a:chOff x="1828800" y="1371600"/>
            <a:chExt cx="6095880" cy="2966760"/>
          </a:xfrm>
        </p:grpSpPr>
        <p:grpSp>
          <p:nvGrpSpPr>
            <p:cNvPr id="155" name=""/>
            <p:cNvGrpSpPr/>
            <p:nvPr/>
          </p:nvGrpSpPr>
          <p:grpSpPr>
            <a:xfrm>
              <a:off x="1828800" y="1371600"/>
              <a:ext cx="6095880" cy="2819520"/>
              <a:chOff x="1828800" y="1371600"/>
              <a:chExt cx="6095880" cy="281952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8800" y="1371600"/>
                <a:ext cx="6095880" cy="28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5105520" y="1981080"/>
                <a:ext cx="1600200" cy="1676520"/>
              </a:xfrm>
              <a:prstGeom prst="rect">
                <a:avLst/>
              </a:prstGeom>
              <a:noFill/>
              <a:ln w="316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5367600" y="38178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e0004a"/>
                  </a:solidFill>
                  <a:uFillTx/>
                  <a:latin typeface="Arial"/>
                  <a:ea typeface="宋体"/>
                </a:rPr>
                <a:t>数据分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004a"/>
                </a:solidFill>
                <a:latin typeface="Arial"/>
                <a:ea typeface="宋体"/>
              </a:rPr>
              <a:t>非营利性心脏研究所</a:t>
            </a:r>
            <a:endParaRPr b="1" lang="en-US" sz="36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004a"/>
                </a:solidFill>
                <a:latin typeface="Arial"/>
                <a:ea typeface="宋体"/>
              </a:rPr>
              <a:t>目标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病人诊断数量，减少病人留医时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004a"/>
                </a:solidFill>
                <a:latin typeface="Arial"/>
                <a:ea typeface="宋体"/>
              </a:rPr>
              <a:t>行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进行病人和医护人员表现调查，收集了大量数据并进行深入分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004a"/>
                </a:solidFill>
                <a:latin typeface="Arial"/>
                <a:ea typeface="宋体"/>
              </a:rPr>
              <a:t>结果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了预示病人风险的分析模型，大大提高了病人满意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缩短了病人留医时间，第一年即节约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美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95480" y="761760"/>
            <a:ext cx="3657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0004a"/>
                </a:solidFill>
                <a:uFillTx/>
                <a:latin typeface="Arial"/>
                <a:ea typeface="宋体"/>
              </a:rPr>
              <a:t>数据分析</a:t>
            </a:r>
            <a:endParaRPr b="1" lang="en-US" sz="32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7467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004a"/>
                </a:solidFill>
                <a:latin typeface="Arial"/>
                <a:ea typeface="宋体"/>
              </a:rPr>
              <a:t>如何提高效率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进行有意义的分析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提供可行动的结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预测分析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17520" y="458640"/>
            <a:ext cx="1449360" cy="1293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403280" y="404640"/>
            <a:ext cx="7344000" cy="4176720"/>
            <a:chOff x="1403280" y="404640"/>
            <a:chExt cx="7344000" cy="417672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rcRect l="0" t="0" r="25003" b="22917"/>
            <a:stretch/>
          </p:blipFill>
          <p:spPr>
            <a:xfrm>
              <a:off x="1403280" y="404640"/>
              <a:ext cx="734400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047320" y="1435680"/>
              <a:ext cx="5217840" cy="242352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559560" y="3716280"/>
            <a:ext cx="258444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80ff"/>
                </a:solidFill>
                <a:uFillTx/>
                <a:latin typeface="Arial"/>
                <a:ea typeface="宋体"/>
              </a:rPr>
              <a:t>SP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013360"/>
            <a:ext cx="604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　　在着手做任何分析之前，首先要保证数据已经准备好。分析工具最好同时有深度和广度。更重要的是，要能够进行描述性分析，使您可以方便地了解最终结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102600" y="620640"/>
            <a:ext cx="853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进行有意义的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378080" y="404640"/>
            <a:ext cx="7514640" cy="4608720"/>
            <a:chOff x="1378080" y="404640"/>
            <a:chExt cx="7514640" cy="46087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rcRect l="0" t="0" r="0" b="9376"/>
            <a:stretch/>
          </p:blipFill>
          <p:spPr>
            <a:xfrm>
              <a:off x="1378080" y="404640"/>
              <a:ext cx="7449840" cy="46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572120" y="2765160"/>
              <a:ext cx="7320600" cy="219204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486400" y="1600200"/>
            <a:ext cx="31240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80ff"/>
                </a:solidFill>
                <a:uFillTx/>
                <a:latin typeface="Arial"/>
                <a:ea typeface="宋体"/>
              </a:rPr>
              <a:t>SP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164160" y="620640"/>
            <a:ext cx="9752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提供可行动的结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5229360"/>
            <a:ext cx="662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　　不论采用什么分析技术，最终目的都是要据此采取行动。如果不能清晰地向决策者表达和发布分析结果，分析的价值就会大打折扣。预测分析也非常重要，分析报告如果能包括预测受访者未来行为的信息，就会更加具有可行动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828800" y="1371600"/>
            <a:ext cx="6095880" cy="2958480"/>
            <a:chOff x="1828800" y="1371600"/>
            <a:chExt cx="6095880" cy="2958480"/>
          </a:xfrm>
        </p:grpSpPr>
        <p:grpSp>
          <p:nvGrpSpPr>
            <p:cNvPr id="177" name=""/>
            <p:cNvGrpSpPr/>
            <p:nvPr/>
          </p:nvGrpSpPr>
          <p:grpSpPr>
            <a:xfrm>
              <a:off x="1828800" y="1371600"/>
              <a:ext cx="6095880" cy="2819520"/>
              <a:chOff x="1828800" y="1371600"/>
              <a:chExt cx="6095880" cy="2819520"/>
            </a:xfrm>
          </p:grpSpPr>
          <p:pic>
            <p:nvPicPr>
              <p:cNvPr id="1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8800" y="1371600"/>
                <a:ext cx="6095880" cy="28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6324480" y="1981080"/>
                <a:ext cx="1600200" cy="1676520"/>
              </a:xfrm>
              <a:prstGeom prst="rect">
                <a:avLst/>
              </a:prstGeom>
              <a:noFill/>
              <a:ln w="316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6717600" y="3870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0004a"/>
                  </a:solidFill>
                  <a:latin typeface="Arial"/>
                  <a:ea typeface="宋体"/>
                </a:rPr>
                <a:t>结果发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04a"/>
                </a:solidFill>
                <a:latin typeface="Arial"/>
                <a:ea typeface="宋体"/>
              </a:rPr>
              <a:t>Market Research Firm</a:t>
            </a:r>
            <a:endParaRPr b="1" lang="en-US" sz="32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47560" y="1371600"/>
            <a:ext cx="7445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e0004a"/>
                </a:solidFill>
                <a:latin typeface="Arial"/>
                <a:ea typeface="宋体"/>
              </a:rPr>
              <a:t>目标：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　致力于解决并达到在线调查研究客户的需求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e0004a"/>
                </a:solidFill>
                <a:latin typeface="Arial"/>
                <a:ea typeface="宋体"/>
              </a:rPr>
              <a:t>行动：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　开展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Internet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在线调查，包括数据收集、监控和报告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e0004a"/>
                </a:solidFill>
                <a:latin typeface="Arial"/>
                <a:ea typeface="宋体"/>
              </a:rPr>
              <a:t>结果：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75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网络在线调查业务占总调查业务的比例由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增加到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40%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75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客户可以实时查看调查结果，增加了客户满意度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95120" y="761760"/>
            <a:ext cx="5715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e0004a"/>
                </a:solidFill>
                <a:uFillTx/>
                <a:latin typeface="Arial"/>
                <a:ea typeface="宋体"/>
              </a:rPr>
              <a:t>报告和结果发布</a:t>
            </a:r>
            <a:endParaRPr b="1" lang="en-US" sz="36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004a"/>
                </a:solidFill>
                <a:latin typeface="Arial"/>
                <a:ea typeface="宋体"/>
              </a:rPr>
              <a:t>如何提高效率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通过浏览器发布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用户可以交互式地查阅报告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报告外观可以定制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方便地导出结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1496880" cy="1293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332000" y="404640"/>
            <a:ext cx="6800760" cy="4932360"/>
            <a:chOff x="1332000" y="404640"/>
            <a:chExt cx="6800760" cy="493236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rcRect l="0" t="0" r="0" b="5207"/>
            <a:stretch/>
          </p:blipFill>
          <p:spPr>
            <a:xfrm>
              <a:off x="1332000" y="404640"/>
              <a:ext cx="6800760" cy="49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447920" y="4465800"/>
              <a:ext cx="6044760" cy="676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2980ff"/>
                  </a:solidFill>
                  <a:uFillTx/>
                  <a:latin typeface="Arial"/>
                  <a:ea typeface="宋体"/>
                </a:rPr>
                <a:t>SmartViewer Web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46880" y="1927440"/>
              <a:ext cx="465120" cy="39492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164160" y="550800"/>
            <a:ext cx="9752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通过浏览器发布结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5445000"/>
            <a:ext cx="6948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Internet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日益普及，几乎每一台电脑都安装了浏览器。通过浏览器发布结果可以实现高效率、低成本。上图和前面的输出结果样式几乎一模一样。这种转换只需一两分钟，而且发布以后所有的人马上就可看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98360" y="444600"/>
            <a:ext cx="675720" cy="4384440"/>
          </a:xfrm>
          <a:custGeom>
            <a:avLst/>
            <a:gdLst>
              <a:gd name="textAreaLeft" fmla="*/ 32760 w 675720"/>
              <a:gd name="textAreaRight" fmla="*/ 642960 w 675720"/>
              <a:gd name="textAreaTop" fmla="*/ 32760 h 4384440"/>
              <a:gd name="textAreaBottom" fmla="*/ 4351680 h 4384440"/>
            </a:gdLst>
            <a:ahLst/>
            <a:rect l="textAreaLeft" t="textAreaTop" r="textAreaRight" b="textAreaBottom"/>
            <a:pathLst>
              <a:path w="21600" h="140089">
                <a:moveTo>
                  <a:pt x="3600" y="0"/>
                </a:moveTo>
                <a:arcTo wR="3600" hR="3600" stAng="16200000" swAng="-5400000"/>
                <a:lnTo>
                  <a:pt x="0" y="136489"/>
                </a:lnTo>
                <a:arcTo wR="3600" hR="3600" stAng="10800000" swAng="-5400000"/>
                <a:lnTo>
                  <a:pt x="18000" y="1400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fe82"/>
          </a:solidFill>
          <a:ln w="19080">
            <a:solidFill>
              <a:srgbClr val="990000"/>
            </a:solidFill>
            <a:miter/>
          </a:ln>
          <a:effectLst>
            <a:outerShdw dist="107932" dir="8100000" blurRad="0" rotWithShape="0">
              <a:srgbClr val="006b6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  <a:ea typeface="宋体"/>
              </a:rPr>
              <a:t>　　通过“层”的使用，您可以随意转换报告格式和内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476360" y="476280"/>
            <a:ext cx="7380360" cy="4104720"/>
            <a:chOff x="1476360" y="476280"/>
            <a:chExt cx="7380360" cy="410472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rcRect l="0" t="0" r="0" b="20835"/>
            <a:stretch/>
          </p:blipFill>
          <p:spPr>
            <a:xfrm>
              <a:off x="1476360" y="476280"/>
              <a:ext cx="7380360" cy="405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476360" y="3987720"/>
              <a:ext cx="6674400" cy="59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2980ff"/>
                  </a:solidFill>
                  <a:uFillTx/>
                  <a:latin typeface="Arial"/>
                  <a:ea typeface="宋体"/>
                </a:rPr>
                <a:t>SmartViewer Web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52360" y="2751120"/>
              <a:ext cx="513000" cy="29664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93880" y="2009520"/>
              <a:ext cx="2952000" cy="24696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411280" y="4797360"/>
            <a:ext cx="64087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　　这和前面是同一张表，只是换了一个层。下拉菜单可以用多种方式对结果进行筛选。您可以这样选择查看感兴趣的内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　　选择好满意的视图后，您可以把它保存起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327" t="0" r="0" b="0"/>
          <a:stretch/>
        </p:blipFill>
        <p:spPr>
          <a:xfrm>
            <a:off x="1066680" y="990720"/>
            <a:ext cx="80773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542600" y="2946240"/>
            <a:ext cx="6895440" cy="699840"/>
            <a:chOff x="1542600" y="2946240"/>
            <a:chExt cx="6895440" cy="699840"/>
          </a:xfrm>
        </p:grpSpPr>
        <p:sp>
          <p:nvSpPr>
            <p:cNvPr id="48" name=""/>
            <p:cNvSpPr/>
            <p:nvPr/>
          </p:nvSpPr>
          <p:spPr>
            <a:xfrm>
              <a:off x="5481000" y="29574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数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清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83000" y="30034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结果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12920" y="29574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数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42600" y="29462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项目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计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83960" y="29574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查</a:t>
              </a: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设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9240" y="29574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数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收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7000" y="3276720"/>
              <a:ext cx="304920" cy="0"/>
            </a:xfrm>
            <a:prstGeom prst="line">
              <a:avLst/>
            </a:prstGeom>
            <a:ln w="381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00360" y="3276720"/>
              <a:ext cx="304920" cy="0"/>
            </a:xfrm>
            <a:prstGeom prst="line">
              <a:avLst/>
            </a:prstGeom>
            <a:ln w="381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00760" y="3276720"/>
              <a:ext cx="304560" cy="0"/>
            </a:xfrm>
            <a:prstGeom prst="line">
              <a:avLst/>
            </a:prstGeom>
            <a:ln w="381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43760" y="3276720"/>
              <a:ext cx="304560" cy="0"/>
            </a:xfrm>
            <a:prstGeom prst="line">
              <a:avLst/>
            </a:prstGeom>
            <a:ln w="381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39040" y="3276720"/>
              <a:ext cx="304920" cy="0"/>
            </a:xfrm>
            <a:prstGeom prst="line">
              <a:avLst/>
            </a:prstGeom>
            <a:ln w="381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195640" y="4149720"/>
            <a:ext cx="540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传统调查研究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1446120" y="453960"/>
            <a:ext cx="7373880" cy="4343040"/>
            <a:chOff x="1446120" y="453960"/>
            <a:chExt cx="7373880" cy="434304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rcRect l="0" t="0" r="0" b="19791"/>
            <a:stretch/>
          </p:blipFill>
          <p:spPr>
            <a:xfrm>
              <a:off x="1446120" y="453960"/>
              <a:ext cx="7373880" cy="42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570680" y="4169160"/>
              <a:ext cx="6499080" cy="62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2980ff"/>
                  </a:solidFill>
                  <a:uFillTx/>
                  <a:latin typeface="Arial"/>
                  <a:ea typeface="宋体"/>
                </a:rPr>
                <a:t>SmartViewer Web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08160" y="2913480"/>
              <a:ext cx="1312200" cy="62784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411280" y="4941720"/>
            <a:ext cx="67327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  <a:ea typeface="宋体"/>
              </a:rPr>
              <a:t>　　视图保存以后，可以随时调出。无需为五个视图做五次发布。用户可以方便地定制他们感兴趣的视图，而这些，全部可以在浏览器中完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  <a:ea typeface="宋体"/>
              </a:rPr>
              <a:t>　　如果把网络在线调查和在线发布结合起来，不仅可以快速地收集和分析数据，还可以即时得到分析结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09588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4800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004a"/>
                </a:solidFill>
                <a:latin typeface="Arial"/>
                <a:ea typeface="宋体"/>
              </a:rPr>
              <a:t>我们得到的效率：</a:t>
            </a:r>
            <a:endParaRPr b="1" lang="en-US" sz="36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22120" y="112500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f004a"/>
                </a:solidFill>
                <a:latin typeface="Arial"/>
                <a:ea typeface="宋体"/>
              </a:rPr>
              <a:t>客观地确定合适的样本大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统计显著性和样本大小之间找到一个合适的平衡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f004a"/>
                </a:solidFill>
                <a:latin typeface="Arial"/>
                <a:ea typeface="宋体"/>
              </a:rPr>
              <a:t>调整预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可视化、可定制的问卷设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f004a"/>
                </a:solidFill>
                <a:latin typeface="Arial"/>
                <a:ea typeface="宋体"/>
              </a:rPr>
              <a:t>可重复利用的常用问题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设计问卷的同时得到了数据库结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Arial"/>
                <a:ea typeface="宋体"/>
              </a:rPr>
              <a:t>设计问卷的同时建立数据有效性校验规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直接通过浏览器获取数据，省去了手工录入环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Arial"/>
                <a:ea typeface="宋体"/>
              </a:rPr>
              <a:t>高效地同步操作多个调查，或跟踪调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快速展开调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2520" y="1125360"/>
            <a:ext cx="3962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Arial"/>
                <a:ea typeface="宋体"/>
              </a:rPr>
              <a:t>得到调查过程各个时间段的快照（跟踪趋势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数据有效性验证规则在数据录入时自动进行清理，得到的数据马上可以进行分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Arial"/>
                <a:ea typeface="宋体"/>
              </a:rPr>
              <a:t>得出可行动的结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性统计分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Arial"/>
                <a:ea typeface="宋体"/>
              </a:rPr>
              <a:t>预测分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浏览器立刻将分析结果传递给需要的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Arial"/>
                <a:ea typeface="宋体"/>
              </a:rPr>
              <a:t>交互式地访问分析报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定制报告视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0004a"/>
                </a:solidFill>
                <a:latin typeface="Arial"/>
                <a:ea typeface="宋体"/>
              </a:rPr>
              <a:t>方便地导出报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3640" y="5592600"/>
            <a:ext cx="5403960" cy="405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  <a:effectLst>
            <a:outerShdw dist="89604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不管您遇到什么问题，总能在这里找到理想的工具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560" y="7617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0004a"/>
                </a:solidFill>
                <a:latin typeface="Arial"/>
                <a:ea typeface="黑体"/>
              </a:rPr>
              <a:t>结论：</a:t>
            </a:r>
            <a:endParaRPr b="1" lang="en-US" sz="40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22093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0004a"/>
                </a:solidFill>
                <a:latin typeface="Arial"/>
                <a:ea typeface="宋体"/>
              </a:rPr>
              <a:t>“</a:t>
            </a:r>
            <a:r>
              <a:rPr b="1" lang="en-US" sz="4800" spc="-1" strike="noStrike">
                <a:solidFill>
                  <a:srgbClr val="e0004a"/>
                </a:solidFill>
                <a:latin typeface="Arial"/>
                <a:ea typeface="宋体"/>
              </a:rPr>
              <a:t>SPSS</a:t>
            </a:r>
            <a:r>
              <a:rPr b="1" lang="zh-CN" sz="4800" spc="-1" strike="noStrike">
                <a:solidFill>
                  <a:srgbClr val="e0004a"/>
                </a:solidFill>
                <a:latin typeface="Arial"/>
                <a:ea typeface="宋体"/>
              </a:rPr>
              <a:t>使您快速得到</a:t>
            </a:r>
            <a:br>
              <a:rPr sz="4800"/>
            </a:br>
            <a:r>
              <a:rPr b="1" lang="zh-CN" sz="4800" spc="-1" strike="noStrike">
                <a:solidFill>
                  <a:srgbClr val="e0004a"/>
                </a:solidFill>
                <a:latin typeface="Arial"/>
                <a:ea typeface="宋体"/>
              </a:rPr>
              <a:t>可靠的研究结果。</a:t>
            </a:r>
            <a:r>
              <a:rPr b="1" lang="en-US" sz="4800" spc="-1" strike="noStrike">
                <a:solidFill>
                  <a:srgbClr val="e0004a"/>
                </a:solidFill>
                <a:latin typeface="Arial"/>
                <a:ea typeface="宋体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2327" t="0" r="0" b="0"/>
          <a:stretch/>
        </p:blipFill>
        <p:spPr>
          <a:xfrm>
            <a:off x="1066680" y="3213000"/>
            <a:ext cx="8077320" cy="198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2701" r="0" b="2701"/>
          <a:stretch/>
        </p:blipFill>
        <p:spPr>
          <a:xfrm>
            <a:off x="1828800" y="533520"/>
            <a:ext cx="594360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23440" y="2917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果发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07200" y="2917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据分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42000" y="2917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项目计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124080"/>
            <a:ext cx="304920" cy="0"/>
          </a:xfrm>
          <a:prstGeom prst="line">
            <a:avLst/>
          </a:prstGeom>
          <a:ln w="381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3124080"/>
            <a:ext cx="304920" cy="0"/>
          </a:xfrm>
          <a:prstGeom prst="line">
            <a:avLst/>
          </a:prstGeom>
          <a:ln w="381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83440" y="3124080"/>
            <a:ext cx="304560" cy="0"/>
          </a:xfrm>
          <a:prstGeom prst="line">
            <a:avLst/>
          </a:prstGeom>
          <a:ln w="381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99160" y="29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据累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5445000"/>
            <a:ext cx="496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我们把这些步骤挤一挤，效率会大大提高，而所有的步骤仍将保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676520" y="1371600"/>
            <a:ext cx="6248160" cy="3031560"/>
            <a:chOff x="1676520" y="1371600"/>
            <a:chExt cx="6248160" cy="3031560"/>
          </a:xfrm>
        </p:grpSpPr>
        <p:grpSp>
          <p:nvGrpSpPr>
            <p:cNvPr id="71" name=""/>
            <p:cNvGrpSpPr/>
            <p:nvPr/>
          </p:nvGrpSpPr>
          <p:grpSpPr>
            <a:xfrm>
              <a:off x="1676520" y="1371600"/>
              <a:ext cx="6248160" cy="2819520"/>
              <a:chOff x="1676520" y="1371600"/>
              <a:chExt cx="6248160" cy="2819520"/>
            </a:xfrm>
          </p:grpSpPr>
          <p:pic>
            <p:nvPicPr>
              <p:cNvPr id="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8800" y="1371600"/>
                <a:ext cx="6095880" cy="28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1676520" y="1981080"/>
                <a:ext cx="1828800" cy="1752840"/>
              </a:xfrm>
              <a:prstGeom prst="rect">
                <a:avLst/>
              </a:prstGeom>
              <a:noFill/>
              <a:ln w="22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074320" y="3943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0004a"/>
                  </a:solidFill>
                  <a:latin typeface="Arial"/>
                  <a:ea typeface="宋体"/>
                </a:rPr>
                <a:t>项目计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04a"/>
                </a:solidFill>
                <a:latin typeface="Arial"/>
                <a:ea typeface="宋体"/>
              </a:rPr>
              <a:t>Professional Publishing Firm</a:t>
            </a:r>
            <a:endParaRPr b="1" lang="en-US" sz="32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004a"/>
                </a:solidFill>
                <a:latin typeface="Arial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少花在为医院管理者所做关键行业研究报告上的时间和费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0004a"/>
                </a:solidFill>
                <a:latin typeface="Arial"/>
                <a:ea typeface="宋体"/>
              </a:rPr>
              <a:t>行动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　　开发了一套集成的系统，员工可以独立完成整个调查过程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—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从数据录入、数据分析到结果输出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004a"/>
                </a:solidFill>
                <a:latin typeface="Arial"/>
                <a:ea typeface="宋体"/>
              </a:rPr>
              <a:t>结果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700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年节约两万美元咨询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700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完成调查报告的时间由几星期缩减到几秒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761760"/>
            <a:ext cx="2438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e0004a"/>
                </a:solidFill>
                <a:uFillTx/>
                <a:latin typeface="Arial"/>
                <a:ea typeface="黑体"/>
              </a:rPr>
              <a:t>项目计划</a:t>
            </a:r>
            <a:endParaRPr b="1" lang="en-US" sz="3200" spc="-1" strike="noStrike">
              <a:solidFill>
                <a:srgbClr val="e0004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22856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004a"/>
                </a:solidFill>
                <a:latin typeface="Arial"/>
                <a:ea typeface="宋体"/>
              </a:rPr>
              <a:t>如何提高效率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确定满足研究目标的合适的样本大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49"/>
              </a:spcBef>
              <a:buClr>
                <a:srgbClr val="e1004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调节调查计划预算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85800"/>
            <a:ext cx="8077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5280" y="439560"/>
            <a:ext cx="1420920" cy="131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228680" y="404640"/>
            <a:ext cx="7664040" cy="4248360"/>
            <a:chOff x="1228680" y="404640"/>
            <a:chExt cx="7664040" cy="42483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rcRect l="0" t="0" r="0" b="4260"/>
            <a:stretch/>
          </p:blipFill>
          <p:spPr>
            <a:xfrm>
              <a:off x="1294200" y="404640"/>
              <a:ext cx="7598520" cy="412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228680" y="3935160"/>
              <a:ext cx="3501720" cy="71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ff"/>
                  </a:solidFill>
                  <a:uFillTx/>
                  <a:latin typeface="Arial"/>
                  <a:ea typeface="宋体"/>
                </a:rPr>
                <a:t>Sample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5160" y="943200"/>
              <a:ext cx="6673320" cy="101736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26640" y="476280"/>
            <a:ext cx="853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确定样本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4797360"/>
            <a:ext cx="62658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宋体"/>
              </a:rPr>
              <a:t>SPSS SamplePower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可以在统计显著性和样本大小之间找到一个平衡点，帮您确定合适的样本大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宋体"/>
              </a:rPr>
              <a:t>　　如果样本太小，可能得不到任何重要结果，白白浪费时间。而样本太大，又会造成时间和资金的浪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265400" y="404640"/>
            <a:ext cx="7698960" cy="4627800"/>
            <a:chOff x="1265400" y="404640"/>
            <a:chExt cx="7698960" cy="4627800"/>
          </a:xfrm>
        </p:grpSpPr>
        <p:pic>
          <p:nvPicPr>
            <p:cNvPr id="88" name="" descr=""/>
            <p:cNvPicPr/>
            <p:nvPr/>
          </p:nvPicPr>
          <p:blipFill>
            <a:blip r:embed="rId1"/>
            <a:srcRect l="0" t="0" r="0" b="4260"/>
            <a:stretch/>
          </p:blipFill>
          <p:spPr>
            <a:xfrm>
              <a:off x="1331280" y="404640"/>
              <a:ext cx="7633080" cy="44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265400" y="4250880"/>
              <a:ext cx="3517560" cy="781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ff"/>
                  </a:solidFill>
                  <a:uFillTx/>
                  <a:latin typeface="Arial"/>
                  <a:ea typeface="宋体"/>
                </a:rPr>
                <a:t>SamplePow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96960" y="1969200"/>
              <a:ext cx="6836400" cy="2216160"/>
            </a:xfrm>
            <a:prstGeom prst="rect">
              <a:avLst/>
            </a:prstGeom>
            <a:noFill/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-236880" y="692280"/>
            <a:ext cx="975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调节预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5080" y="5153040"/>
            <a:ext cx="68040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  <a:ea typeface="宋体"/>
              </a:rPr>
              <a:t>　　然后，您需要把这些结果提交给您的上司进行讨论以调整项目的预算，自然需要对结果进行演示。上图中，分析结果被转换为图形格式，您可以把它放到演示文档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  <a:ea typeface="宋体"/>
              </a:rPr>
              <a:t>　　确定了样本大小并调整预算后，您就可以开始调查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20:26:42Z</dcterms:created>
  <dc:creator>p</dc:creator>
  <dc:description/>
  <dc:language>en-US</dc:language>
  <cp:lastModifiedBy>spssbj</cp:lastModifiedBy>
  <dcterms:modified xsi:type="dcterms:W3CDTF">2002-07-28T09:23:09Z</dcterms:modified>
  <cp:revision>705</cp:revision>
  <dc:subject/>
  <dc:title>PowerPoint Presentation</dc:title>
</cp:coreProperties>
</file>